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1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3.wmf" ContentType="image/x-wmf"/>
  <Override PartName="/ppt/media/image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DED-1093-43F4-95D9-4A4C56F8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2AB-2D87-4ED8-A718-151E0060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66F-5E79-4739-A892-4A4B2120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1A0-5D69-4EB5-9A9A-1C25FFAF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674-D5D5-4A3A-A0DB-A17A1268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370-8EDF-44BB-AE00-E092494F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673-9E3E-4071-B145-C67E8A54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512-8447-4FF6-BE57-E40C0443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F18-81A3-4D34-9D8E-877585D6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60C-8727-4780-A02D-0EAB3A46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A01-1B8D-4577-9611-DDFBEA95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A67F-4F7A-4404-937D-3EF3140F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659F-0A2A-4F4F-BBD4-9255A656B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predni kurs o visokotehnološkom kriminalu za sudije i tužio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ija 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na foren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7960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ogna i digitalna foren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2187720"/>
            <a:ext cx="7848720" cy="3686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6172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prema 64 milijar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1 prema više od 340 milijardi milijardi milijar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enzičke nau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cija, struktura i metodolog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na foren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nzička nau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e izučavanje bilo koje oblasti kako se odnosi na pravne stvar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nzički dokazni materija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 dokazi koji ispunjavaju stroga merila pouzdanosti i naučnog integriteta da bi bili prihvatljivi su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na forenzik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oblast forenzičke nauke koji je u vezi s pribavljanjem, obradom, analizom i izveštavanjem o dokazima koji su pohranjeni u računarskim sistemima, digitalnim uređajima i drugim medijima za skladištenje podataka sa ciljem prihvatljivosti u su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Digitalna forenzika</a:t>
            </a:r>
            <a:br>
              <a:rPr sz="3200"/>
            </a:br>
            <a:r>
              <a:rPr b="0" lang="sr-Latn-CS" sz="2800" spc="-1" strike="noStrike">
                <a:solidFill>
                  <a:srgbClr val="0066ff"/>
                </a:solidFill>
                <a:latin typeface="Arial"/>
              </a:rPr>
              <a:t>Digitalna forenzika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3521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čunarska forenzik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bilna forenzik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ežna forenzik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 mortem forenz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oidna forenzik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nzika mreža uživ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nzika živih ljud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S forenzik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nzika presretnuti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ke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nzika aplikaci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telefon/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bian/drug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 malver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nzika drugi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eđaja DVR, ruteri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rice, uređaji 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movanje, it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o, uključujući GP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fb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raci u digitalnim forenzičkim istragam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2209680"/>
          <a:ext cx="8229600" cy="609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bavlj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b6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Digitalni trag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egorije i prime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tegorije i prim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govi koji mogu da se izbegn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zbežni tragov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memorije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kovi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skovi nedavno korišćenih aplikaci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skorišćen prost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 datotek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orije pretraživan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 memori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memorije pretraživan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ki aplikacioni tragov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više korišćeni progr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aci o for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file.s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berfil.s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nski shadow poda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dcc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Šta digitalna forenzika može da učini za vas?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ternetska istorij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380960"/>
            <a:ext cx="838224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Šta digitalna forenzika može da učini za v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daci koji su specifični za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grami koje je koristio, sajtovi koje je posećivao, pretrage koje je vršio, datoteke koje je otvarao/skladiš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Exif pod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da i gde je slika načinjena, sa tipom kamere i serijskim broj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148752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Šta digitalna forenzika može da učini za va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aci o aplikacij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kim je u vezi e-mejlom, istorija četovanja, banke podataka, konfiguracije, analiza malv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g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ovi slika koje služe kao dokazi, isprave, istorija, datoteke log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51120" y="1676520"/>
            <a:ext cx="18478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kust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 li neko u ovoj sob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 ikakvog iskust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oblasti digitalne forenz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ta digitalna forenzika može da učini za va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azne isp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vodi s računa, poruke sa ucenama, nezakonite slike, kontakti, datoteke logovanja, ukradeni planovi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pristupačni pod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rivene datoteke, kodirane datoteke, izbrisani podaci, steganografijski obrađene datoteke, skladištenje u oblaku/mrež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60520" y="1447920"/>
            <a:ext cx="1859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Digitalni trag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Upozore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Sl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tehni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pod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ostavno objašnjenje steganografij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0880" y="1542960"/>
            <a:ext cx="80773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 li je datoteka obrisana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803240"/>
            <a:ext cx="861048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Da li je datoteka obrisana?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drž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00200"/>
          <a:ext cx="8229600" cy="19051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iv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cirano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a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žina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.jpg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.doc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file.tx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445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57200" y="4097160"/>
            <a:ext cx="40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ko povratiti datote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Kopirati iz Recycle b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Ne obraćajte pažnju na alokacijski stat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Ka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380988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415120" y="3962520"/>
            <a:ext cx="3195360" cy="1644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 flipV="1">
            <a:off x="6095880" y="2437920"/>
            <a:ext cx="6098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ek prosto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3657600"/>
          <a:ext cx="8229600" cy="274320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15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o je tekst iz starog dokumenta. Ovo je tekst iz starog dokume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o je tekst iz starog dokumenta. Ovo je tekst iz starog dokume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o je tekst iz starog dokumenta. Ovo je tekst iz starog dokume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o je tekst iz starog dokumenta. Ovo je tekst iz starog dokume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o je tekst iz starog dokumenta. Ovo je tekst iz starog dokume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o je tekst iz starog dokumenta. Ovo je tekst iz starog dokume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o je tekst iz starog dokumenta. Ovo je tekst iz starog dokume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o je tekst iz starog dokumenta. Ovo je tekst iz starog dokume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t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64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609480" y="55627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2952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1877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ek pro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1368360"/>
            <a:ext cx="83059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436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oteka sl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ktorski/RAM slek      Klasterski/Drajv sl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2665440"/>
            <a:ext cx="53341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led ciljeva ses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kraju ove sesije učesnici će biti u stanju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asne pojam digitalna foren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ede digitalnu forenziku s klasičnim forenzičkim nauk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šu barem tri podgrane digitalne forenz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oznaju četiri koraka u digitalnim forenzičkim istrag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zlikuju jednu od druge vrste digitalnih trag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šu kako digitalna forenzika može da pomogne u istrag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asne u kratkim crtama kako funkcioniše steganograf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ede tri metode vraćanja izbrisanih datote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asne različite vrste slek pros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71600" y="274680"/>
            <a:ext cx="6629400" cy="5299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124080" y="5684760"/>
            <a:ext cx="922320" cy="639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72120" y="5913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ljevi ses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kraju ove sesije učesnici će biti u stanju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asne značenje pojma digitalne forenz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ede digitalnu forenziku sa klasičnim forenzičkim nauk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šu barem tri podgrane digitalne forenz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ju četiri koraka digitalnih forenzičkih istr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aznaju dve kategorije digitalnih trag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asne kako digitalna forenzika može da podrži ist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asne kako funkcioniše steganograf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ede tri metoda pronalaženja obrisanih datote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išu različite oblike slek prosto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italna forenzik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152360"/>
            <a:ext cx="754380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na forenz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sične forenzičke na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otisaka prist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K profilis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nzička entom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nzička pat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tragova kr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ističko uzimanje otisaka prst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924440" y="1600200"/>
            <a:ext cx="370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ogna i digitalna foren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2487600"/>
            <a:ext cx="8610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ogna i digitalna foren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2255760"/>
            <a:ext cx="830592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ogna i digitalna foren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3055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4:02:49Z</dcterms:created>
  <dc:creator>Master</dc:creator>
  <dc:description/>
  <dc:language>en-US</dc:language>
  <cp:lastModifiedBy>Master</cp:lastModifiedBy>
  <dcterms:modified xsi:type="dcterms:W3CDTF">2013-09-12T15:15:51Z</dcterms:modified>
  <cp:revision>16</cp:revision>
  <dc:subject/>
  <dc:title>Slide 1</dc:title>
</cp:coreProperties>
</file>